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261-A2A4-405A-9452-982F14A6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829-29AA-460C-8BE5-3BCFDFD1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05D-0810-4560-BF88-4A581A28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610-FA6C-4955-A74C-0AC16293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D25-7F24-456C-B394-DF37020A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2EA-B8A2-4613-BA65-04D70FDD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D21F-12CC-4C15-ABB9-CBAB8B2F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D5D-F26C-464E-85FE-C79F53A0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A7A-9DA1-45C0-8BAB-EDD2CB1B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0BB-C88B-4AFE-9B31-568EB90A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C97-750C-4A52-8B68-2D51175E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4C3-90EC-4485-BD51-308C8003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CE7C-3C06-4445-8BE4-95533A6879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its.blogs.nytimes.com/2012/08/15/daily-report-germans-reopen-facebook-privacy-inquiry/" TargetMode="External"/><Relationship Id="rId2" Type="http://schemas.openxmlformats.org/officeDocument/2006/relationships/hyperlink" Target="http://phys.org/news/2012-08-german-facebook-delete.html" TargetMode="External"/><Relationship Id="rId3" Type="http://schemas.openxmlformats.org/officeDocument/2006/relationships/hyperlink" Target="http://www.post-gazette.com/stories/business/technology/germany-reopens-facebook-privacy-inquiry-649070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profile.ak.fbcdn.net/hprofile-ak-snc4/174834_20531316728_3694083_n.jpg&amp;imgrefurl=http://www.facebook.com/facebook&amp;usg=__lr0jteIX5ueX2w92rQ-tsuxgCLQ=&amp;h=200&amp;w=200&amp;sz=7&amp;hl=en&amp;start=1&amp;zoom=1&amp;tbnid=k5lIFSuPJjnXOM:&amp;tbnh=104&amp;tbnw=104&amp;ei=gHczUOaDB6f20gG51oDQAw&amp;prev=/search%3Fq%3Dfacebook%26um%3D1%26hl%3Den%26safe%3Dactive%26sa%3DN%26gbv%3D2%26tbm%3Disch&amp;um=1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dia, Communication, and  Leisur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e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rman Facebook Investiga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Leila Becirev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Report: Germans Reopen Facebook Privacy Inquiry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bits.blogs.nytimes.com/2012/08/15/daily-report-germans-reopen-facebook-privacy-inquiry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 Official: Facebook must delete faces (update)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phys.org/news/2012-08-german-facebook-delete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y Reopens Facebook Privacy Inquiry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http://www.post-gazette.com/stories/business/technology/germany-reopens-facebook-privacy-inquiry-649070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617220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theeword.co.uk/uploads/German_state_bans_the_Facebook_Like_button_867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 official Johannes Caspar wants Facebook to delete faces from its databa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ings with Facebook to bring its practices in line with German and European Union privacy policies have fail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par has stated that he will be re-opening a delayed investigation of Menlo Park, a California-based compan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o find a legally sound solution with regard to the use of biometric data.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par is highly critical of the tagging fe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par says that Facebook will have to delete its data unless it is approved by the users because it is a legal requirement to obtain consent in order to collect and process biometric da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annes Caspar, the German official leading the German invest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476760" cy="457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7560" y="6400800"/>
            <a:ext cx="380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cdn2.pc.de/images/6/9/e/d/512/28eb024aa4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1920" y="45684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book is under investigation by German officials for illegally compiling a database of users photos without their cons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repeated attempts to convince Facebook to change its policies had failed, the investigation (which was suspended in June) reope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par said that he plans to send a request to Facebook to amend its practices by the end of September and end the investig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book said that it was not breaking any European Union laws with the tagging feat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eland’s deputy data commissioner Gary Davis, said Facebook agreed to suspend the photo tagging feature for all Europeans who join the site as of July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book is being investigated by German offic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70080" y="6248520"/>
            <a:ext cx="649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techgadgetsweb.com/wp-content/uploads/2012/08/120622_facebook-300x225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2824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annes Caspar led Germany’s investigation of Google’s collection of personal data and is leading the investigation of Faceboo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book has a photo tagging feature which allows users to attach the names of people that are in the picture they have uploaded. Caspar wants users to have to opt-in to use the photo tagging feature on Facebook rather than opt-ou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book’s European operation is incorporated in Ireland and maintains that the practice is legal t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cond audit of Facebook’s data is being performed by Irish officia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Facebook refuses to delete its biometric data, the fine they must pay in Germany is $30,00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acebook Log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7524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51320" y="5943600"/>
            <a:ext cx="566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profile.ak.fbcdn.net/hprofile-ak-snc4/174834_20531316728_3694083_n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iz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) What is the fine for Facebook in Germany if they do not delete their datab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$3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$4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$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) Where is Facebook’s European operation incorpor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Irel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swe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)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)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1:56:09Z</dcterms:created>
  <dc:creator>SCSadmin</dc:creator>
  <dc:description/>
  <dc:language>en-US</dc:language>
  <cp:lastModifiedBy>SCSadmin</cp:lastModifiedBy>
  <dcterms:modified xsi:type="dcterms:W3CDTF">2012-08-23T12:14:22Z</dcterms:modified>
  <cp:revision>12</cp:revision>
  <dc:subject/>
  <dc:title>Media, Communication, and  Leisure: Internet German Facebook dilemma    </dc:title>
</cp:coreProperties>
</file>